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1.jpeg" ContentType="image/jpeg"/>
  <Override PartName="/ppt/media/mickey.wav" ContentType="audio/x-wav"/>
  <Override PartName="/ppt/media/image5.png" ContentType="image/png"/>
  <Override PartName="/ppt/media/CARBRAKE.WAV" ContentType="audio/x-wav"/>
  <Override PartName="/ppt/media/DRIVEBY.WAV" ContentType="audio/x-wav"/>
  <Override PartName="/ppt/media/image2.png" ContentType="image/png"/>
  <Override PartName="/ppt/media/image3.png" ContentType="image/png"/>
  <Override PartName="/ppt/media/image4.jpeg" ContentType="image/jpeg"/>
  <Override PartName="/ppt/media/APPLAUSE.WAV" ContentType="audio/x-wav"/>
  <Override PartName="/ppt/media/DRUMROLL.WAV" ContentType="audio/x-wav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E4E6-C03F-40AF-A0EA-E2825601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C5BE-B730-4071-BFBA-DBF8EA51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7BBD6-AC3C-429F-B167-B9DF680E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7E650-F874-4FAE-8878-0A71EB42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DC709-4765-4BC7-B8A6-136C6943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DD0EB-D8DD-4CA1-826C-389D381A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6129B-300F-4DC0-BA6C-2211BFC3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98C18-EDD0-4271-A635-8AB86D0E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F2B0A-B6E8-41E1-ACE5-D73E2EC2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206C5-0385-42FC-99F0-BB2F055F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B30E8-9E34-4841-9FE3-9EFEE5D6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58463-5166-4395-9932-736692BF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1319-D95C-498E-85AA-52FEB598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E4364-78B8-445A-9D04-A9A1AA64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B9D14-7EED-4630-BA38-4BB26AE5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3E1DE-FDE8-47A8-AFB0-08F0A257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19BB8-0A23-4C48-8F0C-BAA0255E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8A384-5D0B-4F5D-8E74-00BC1EC2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CF199-9788-43E3-98FC-7B9A27E9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94C8F-8ED9-4018-A02D-5A9C1970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7FE4C-8FD6-4F94-83E9-84D6F158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D4EC0-8F92-4454-B2A2-51097A54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1CAFA-0506-4E85-B7F0-C69E8458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ABBE-CD53-4520-811E-58AB25AB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544F5-B0C0-406F-AA47-C60ECD93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FEB17-E463-41D4-8F32-8733D061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8CA595-3AA0-4CDF-B5E8-3A6F5618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6063C-6A01-447F-8AC4-EF2EFA0B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5ABBF-5CC3-4ABD-8E7B-DE62F951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65352-BB44-4D61-95E6-954A7CEF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4F220-96B8-409F-88A9-94F96C0B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A58A5-77AB-4F90-84C1-0EFD9A3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380312-A783-4E74-9081-0EA65833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79D1A-16EA-4EB3-AE67-0E601D2E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1503C-58F0-465E-B96A-C31B1ED6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D2CD7-D42B-4931-9ADE-CDD29433B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E76AD-3E3E-44D5-87CD-BB02D49C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4FACE-852F-4598-A790-E4EE2172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E44E0-EEF1-4C0D-AF1F-3A5E945D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3F277-2C99-490A-9363-F7AB2E24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74C9D-4206-4EE0-8BF3-DD65B93D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A279E-CBCE-4AC7-9244-03125698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FA3A0-01F5-40A7-8AF4-147BEBA7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848FC-ED24-49E7-8D43-08634A2D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A9911-B348-4E45-BAB7-DFAD6EFE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2E7B8-3056-4009-99D0-CB1E86C8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F2B8A-BEE4-4554-97EA-D05C040B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B616D-58BE-42CB-82B6-C9F85D4C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B9CEE-61B3-4D26-BCCF-F45EDAC9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C9911-55B5-4D94-86B1-CC091743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E76B4-40D7-428A-914A-7850755E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2C91A-B543-4B91-BAFB-B75F9267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CEF34-073F-4F6A-80D6-9A57B295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25A4B-23F7-4BF9-9A6B-509F475C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A3016-71EE-41D1-A35E-F0FD3B4C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2DD8A-3DE6-4F97-B0CD-05AAA94E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C864E-7BDC-4051-B164-36F98CC7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9F550-B1EF-43E5-A870-FE2D3306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70F20-C703-43E1-88F5-C5F89266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CA4DB-5AA7-4845-B381-B2CA2BC4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DEB54-9C42-4F3B-9676-A5AEA1DC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C83F6-8037-4B3E-A548-683BC80D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51587-8A5B-4CF1-A267-E176A5FC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8E4F2D-F758-48DE-A9EE-0390AC28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55139-3E07-4A57-BB9C-A17C9342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41AF3-83D3-4C95-9A99-84A17BF6C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6651F-70EF-4A7D-8204-BEBD0386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8E339-0097-45B1-8A37-404C3CA6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2E955-AC4C-4A61-9DE2-B46940E6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9D1C5-1F22-4849-BFA2-54AEF177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D62AC-89DB-4C27-9EC4-71E727F3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1AA8C7-2B68-48EF-ABE1-F44D8AC6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433DF9-6F7C-482A-B160-F338E1AD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B2402C-BD00-4671-A22E-78672AF7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FA295C-9D96-4E71-801B-A462627C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3C33E0-2D39-4F58-9CBB-F602BE69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94908-0500-40E9-9264-78729AC6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94F17-2B6A-4860-9367-FFF8F4C7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B14DF-86B9-49C9-9BC9-0B2B078E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B54B3-4015-4545-A220-BF42EF15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F9E70-1D37-4522-9410-089F65CB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923EF-AB72-4FA2-A43A-FAE7F845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30B4E-AC9F-49AC-98B6-E8EF9562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4135F-90E1-4F15-B125-0320FC16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27B1E-6279-4F9F-802A-5C0A94E0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351456-DE7A-4BC8-86CB-01095EB8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9DD78-EE97-406A-AB8A-40947D56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AD8561-0421-4111-997E-71616EF8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DD8BE-B22B-46B6-B2DD-F03B3C23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A5195-06F9-49D3-8FAC-0600CA5D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E953D4-B76D-4344-81AA-A064061B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24E35-5179-47D9-827F-1F55C774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8A970-2C99-4E54-941B-94A46489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3B90A-2D67-4878-BBAE-28F62CF0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7842E-B6F7-46CC-BAF3-8410AEC5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EB9D2-B1EE-4425-B9BC-F328515B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F950E-28DF-4514-9DA8-DCD211D9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7E92A4-DD4B-4E37-8C33-4510F3D3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BA9EAF-1764-4B70-8488-050A2CE8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A1E596-FD43-4D0C-A24F-C4143288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A3DDEF-5610-48AA-9EE7-4EA7277B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13542D-690B-4B0A-A964-A70C1962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15468-9B9B-4F71-B174-129068D3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0F647-C767-4141-8F3E-587F8ABF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982-C059-489F-A0FF-31F60436A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365605-C902-4EE1-9827-04D51141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CC796B-4C9C-45C9-828D-1415A2CD8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7F7BA0-45FE-4E21-8962-5352AFAE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299B54-EB29-4DCC-90ED-8453E0BA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F46321-FEEB-418A-ABEA-5C550FFF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4FD3D-D911-4D2F-8F57-AD05E251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FF1A6-CB69-4558-9319-0B6799AD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0E2DF7-A6F5-42C7-82DE-2729623D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5C12FF-0EE7-4A2D-A447-F6D8A40A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51A723-B2A5-4649-AAC4-0F34C2AB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E5C7A8-B8EB-4181-BD1A-51A4406B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F175C2-7AAD-48DD-89E8-07FAD2CA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ECB46-7274-42CD-8D3E-830CC359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2812B1-7F5C-4D7D-99F0-E9CD5D9E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A004D-1AD3-4726-A37A-65F7EE28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7DC010-29D0-4CE3-8F47-7A97E2663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52222-170F-4218-8319-B71C4614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3830F-3C8D-4E73-9973-C4170994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7F231-C702-41C8-8C3B-0C33935F5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D6F715-7E5B-49F4-A9FE-87C5CAAC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F06131-B34C-47F8-A10D-8F9FA648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DF024-8FDA-4247-9810-C7868F94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6DA7C-C9DF-41AD-905E-9FDC93A3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4100D8-7A71-430C-A56C-D130BB18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13A92C-6062-404A-B073-1C1684D2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445A2-7DC2-485D-9106-945E24EC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EE657-ADD1-46B8-AE21-1EE0F719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478B56-91C4-40A3-9A07-2F5E2CC44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15A6D5-FC23-4EA8-A909-5F69A625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8E8F9-2B03-42AB-B6C2-37FD9FFA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581B76-358B-432D-8AB4-96DD958D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362087-3F7D-4CAE-B3B9-AAC285CA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B6398-E0DC-4B75-90F2-92CD8934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3B069C-509C-4F74-B778-B2F89A4B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C6DB99-103B-4B05-AD34-19685D59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55EC67-57C8-4499-B80B-A3B76F43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35DFDA-1F22-418C-91E7-E1318CFF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5FF497-4539-4277-8A2D-ACEE0711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B77A3A-95B6-4604-BE62-62074B86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D8C1E-A280-47A3-A82E-3650983E5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946A6-F8FC-4C8D-8AAF-991C4A9E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5A5302-D2FF-4006-876A-4D4A1958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EF4BDF-476D-44A1-81CB-2B6A0030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225C37-2BF1-46ED-856D-1EC7A70C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C0DF8D-783B-47F8-8C09-13A18939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366F0A-0C3C-4823-AF85-DA23CDB9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194202-E909-4CA6-B706-9128DF5B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308BCF-7F79-4D13-A4DB-E3C4716A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46F5E7-D14E-478F-8B9A-3D1B4260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DDCC4A-9E69-4632-8EDA-83ED2744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7AD26F-6D0F-45DA-87EF-CE7CD0C0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C692E0-1A41-4BF0-A93E-B3543717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6FEEF1-0509-4946-822E-0461973E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B12799-842A-4A80-9C35-1429B3232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24E1F-2EA4-4562-AABF-4A1BA82D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716A9C-F176-4D02-990F-16AD440E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86AE3C-A41D-4927-B1C9-F570458C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9EAC24-7EE8-42FF-AD5D-5E2C8E86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89C19F-8A02-4D07-9A6B-D8B4EB6B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93341C-99AA-444A-A33F-3716EC7E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AB61D5-523C-43C6-BA49-74ECD8B7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5E24B8-BD2E-431D-AA57-F7B51A70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4A84EC-FE18-496B-8564-459184FF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FB7C22-C226-4C2C-9ACB-A6B226703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C6EF94-465A-4480-9BB4-4CE255B1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2C9EE0-E3B6-4F30-AACA-D8BAD813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7FE54A-3A9E-4DD5-9FBB-EB67CA07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B3642E-F968-4F99-B28A-275CC5CA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4ABCB7-96C1-42E0-A7A1-776A9802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E57E1-3C65-431B-BC76-E4842558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7E5B76-2D2A-42FA-8CF2-C517FEEE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17F9FB-926F-4DE1-9655-746D89FC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C45B99-D3FA-4F1F-907C-4342A30A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D3480B-1FC5-44B2-A709-FB65305E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080E06-D388-4AFA-8846-FA4EA456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225B7C-27A5-445B-A21B-BA5CDC4C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54027F-9205-4E6B-9FD6-76C461139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FFD-EEBE-4042-AD63-EEE1E996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ECFC-6427-4477-9D22-B18C4CB7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2EB5-6D35-4C92-A01E-C4414073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0F75-AF56-4DA0-BAF3-54C29938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5FD7-D441-4F90-A459-28A5181F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3518-09DC-4D7C-B443-7B3F8BA6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C951-E34D-4979-98C1-ABBC5B93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86ED-3FC8-468A-AB17-8AC08EB4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08526-5115-4B1E-ABBA-262BDFAA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FF57-9473-4026-B16A-419DA3F1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8400-082E-4D5E-880B-26CBBC2C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7D1C-4745-4F3E-B06A-9233FC2C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FC9B-D396-4647-9CF6-6DAAF49D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D169-2861-4D74-8AC9-874E969C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CBEA8-4CC6-403F-AAF1-CB4B22A4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D86F-B952-4C97-924F-675EE21C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5DBC8-3B7C-4D93-8046-5B18884A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A7978-EDB5-43A1-80AC-4B41B380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2CD9-656B-4732-96D0-D38FA918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2A711-0B2B-480B-8CE5-9D660AE0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48F0F-D931-404C-AC94-93CBF16C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5FBBC-D5C2-4718-9DAA-EC9D77AF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A2C8-8C4D-45B7-A03F-D02E86D3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020C1-A220-4BE3-B96B-95903FFC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56E37-A848-401F-B882-FB1BB22B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C01C8-6236-4C23-868D-45968128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661-F7BB-4DD9-836A-16926E9B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C867E-B0AD-48BF-AA7B-26D86959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C4641-3EB5-41CD-B064-2FD34FEC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1B99-0E0A-4101-A57B-BF716F4A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9A33-B36C-4DEE-9CA1-C18A45BF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7C8C9-5A48-441A-BC21-24693489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BF4B2-400F-4B56-B241-8B9CCFBF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7A68-CCE1-46FF-94FE-0885E6AA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56F59-C7BE-4A5B-B922-7FEE9398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A9C8-F19F-4BBE-8DD7-606C7CEE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1FAA-BD82-4997-9AB4-7BE9AE6A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331-A36C-4569-8055-897B7B69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86833-88DE-4306-BEB7-0A07D220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43FD4-2AFF-487F-9F59-7581FFB6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ED18-2EA6-44F8-A89E-9D9CF002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75AD5-2632-4916-94AE-181912B6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C489F-693B-4F91-B2E6-ADA3FBEB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97337-78E3-456A-BF11-942DB27A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3E20C-264D-427A-A2F1-57B8EDD7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7C7E9-B171-4C48-9501-C848073A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D9AE5-4875-4988-B36E-57EA4CDF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E3D2F-07C3-4A01-8722-38423E2C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585-AFF7-4D50-92B9-19AB6BEC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4BCA7-2635-4345-80B1-16EDC35D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B4B3F-0796-46A2-BC9B-B50B0B983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EAF90-DFC9-4A94-B3D6-EC93DD92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BC8D1-9E8D-4ADE-A321-E4334201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2E97-6904-45B1-BBEC-4C769EFB1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84C94-F934-4A93-A6AC-A5F42680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3EC26-8805-40FE-A9E7-7CAF5BBA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F886D-1B3B-4D63-91E4-68D7FE4D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7D6DD-AFB3-4832-AEA9-AA5D7DF0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4E232-CA4B-46A7-9196-DCAF29FF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1C8-8B73-4B57-97DF-2908ADDF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8AD5F-CFD6-4E42-9FB8-55A148E2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D6343-4926-4B76-9237-7EF5546D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CA4AC-2A77-49CA-A765-8B7CB57B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640A3-AA73-454F-997C-08838AAD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8BEF2-6240-4A4D-9871-EFECBAA7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52E2A-805C-4404-BD6D-0A043D764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1CAA4-A700-439E-B993-D53A9671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17A97-034E-48C8-B398-FE237469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F51CC-A9E6-4307-B938-A4AC29EE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F4B57-526B-443A-9556-BEB1F043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C540-0CBF-40BC-9244-12F413FBB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8904-986B-423B-8B34-89CDC4B2BF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8E4A-247D-40E6-B3DB-552C0765DD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86F5-C018-41BC-9D85-26443ABD4F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5894-D876-4B77-965F-ECA734ED98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2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2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63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63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64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65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A085-3FEE-4AE3-A343-CE4490CC7C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9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9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0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0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1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2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A68F-3018-4433-862D-6C8735B3B5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6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7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7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8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8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9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7" name="PlaceHolder 1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1900-8A06-4E74-8F37-FE1798EA8C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3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4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4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5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5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6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PlaceHolder 1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930B-713A-433B-AC11-CD233EEC01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0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1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1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2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2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3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PlaceHolder 1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84D3-7838-4261-926D-70FC8DE8FF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8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8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8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9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9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0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0" name="PlaceHolder 1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407B-A465-4480-87B9-969FD9175B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5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5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6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6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7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7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47F9-515E-429C-A6F5-4B60AD3A27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2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2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3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3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4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4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PlaceHolder 1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50AB-2303-4792-99FC-7A1107C30A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9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9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0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0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1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1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3" name="PlaceHolder 1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8F4E-BF02-4109-A97B-620C2AAA64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6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6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7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7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8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9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PlaceHolder 1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40C8-6F39-4C84-8ED8-E0FA277CF5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11A9-312E-4239-90AD-D9FCD3611A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0EFA-80A3-4525-B226-AEA236DA76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F277-07A6-403C-8AC3-63CD58B3E9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2E744-A4F8-41B5-89D3-800195B278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519E-D500-455E-A8BB-A8BC042667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AF04-D719-4E54-A696-F126CA37B0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micke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WordArt 3"/>
          <p:cNvSpPr txBox="1"/>
          <p:nvPr/>
        </p:nvSpPr>
        <p:spPr>
          <a:xfrm>
            <a:off x="1219320" y="2438280"/>
            <a:ext cx="7315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764700"/>
                    </a:gs>
                    <a:gs pos="100000">
                      <a:srgbClr val="ff99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Flying Through Quotation Mark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764700"/>
                  </a:gs>
                  <a:gs pos="100000">
                    <a:srgbClr val="ff99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4" name="Picture 6" descr="A:\astroorbiter.jpg"/>
          <p:cNvPicPr/>
          <p:nvPr/>
        </p:nvPicPr>
        <p:blipFill>
          <a:blip r:embed="rId1"/>
          <a:stretch/>
        </p:blipFill>
        <p:spPr>
          <a:xfrm>
            <a:off x="380880" y="228600"/>
            <a:ext cx="3784680" cy="2819520"/>
          </a:xfrm>
          <a:prstGeom prst="rect">
            <a:avLst/>
          </a:prstGeom>
          <a:ln w="0">
            <a:noFill/>
          </a:ln>
        </p:spPr>
      </p:pic>
      <p:sp>
        <p:nvSpPr>
          <p:cNvPr id="1335" name="AutoShape 7">
            <a:hlinkClick r:id="" action="ppaction://hlinkshowjump?jump=nextslide"/>
          </p:cNvPr>
          <p:cNvSpPr/>
          <p:nvPr/>
        </p:nvSpPr>
        <p:spPr>
          <a:xfrm>
            <a:off x="7848720" y="5943600"/>
            <a:ext cx="890640" cy="585720"/>
          </a:xfrm>
          <a:custGeom>
            <a:avLst/>
            <a:gdLst>
              <a:gd name="textAreaLeft" fmla="*/ 37800 w 890640"/>
              <a:gd name="textAreaRight" fmla="*/ 852840 w 89064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2838" h="21600">
                <a:moveTo>
                  <a:pt x="0" y="0"/>
                </a:moveTo>
                <a:lnTo>
                  <a:pt x="32838" y="0"/>
                </a:lnTo>
                <a:lnTo>
                  <a:pt x="32838" y="21600"/>
                </a:lnTo>
                <a:lnTo>
                  <a:pt x="0" y="21600"/>
                </a:lnTo>
                <a:close/>
              </a:path>
              <a:path fill="lightenLess" w="32838" h="21600">
                <a:moveTo>
                  <a:pt x="0" y="0"/>
                </a:moveTo>
                <a:lnTo>
                  <a:pt x="32838" y="0"/>
                </a:lnTo>
                <a:lnTo>
                  <a:pt x="31438" y="1400"/>
                </a:lnTo>
                <a:lnTo>
                  <a:pt x="1400" y="1400"/>
                </a:lnTo>
                <a:close/>
              </a:path>
              <a:path fill="darken" w="32838" h="21600">
                <a:moveTo>
                  <a:pt x="32838" y="0"/>
                </a:moveTo>
                <a:lnTo>
                  <a:pt x="32838" y="21600"/>
                </a:lnTo>
                <a:lnTo>
                  <a:pt x="31438" y="20200"/>
                </a:lnTo>
                <a:lnTo>
                  <a:pt x="31438" y="1400"/>
                </a:lnTo>
                <a:close/>
              </a:path>
              <a:path fill="darkenLess" w="32838" h="21600">
                <a:moveTo>
                  <a:pt x="328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38" y="20200"/>
                </a:lnTo>
                <a:close/>
              </a:path>
              <a:path fill="lighten" w="328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38" h="21600">
                <a:moveTo>
                  <a:pt x="9412" y="3794"/>
                </a:moveTo>
                <a:lnTo>
                  <a:pt x="23425" y="10800"/>
                </a:lnTo>
                <a:lnTo>
                  <a:pt x="9412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8"/>
          <p:cNvSpPr/>
          <p:nvPr/>
        </p:nvSpPr>
        <p:spPr>
          <a:xfrm>
            <a:off x="3352680" y="5715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Peggy Bri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Picture 2" descr="A:\JungleCruiseMH.gif"/>
          <p:cNvPicPr/>
          <p:nvPr/>
        </p:nvPicPr>
        <p:blipFill>
          <a:blip r:embed="rId1"/>
          <a:stretch/>
        </p:blipFill>
        <p:spPr>
          <a:xfrm>
            <a:off x="685800" y="609480"/>
            <a:ext cx="4572000" cy="2971800"/>
          </a:xfrm>
          <a:prstGeom prst="rect">
            <a:avLst/>
          </a:prstGeom>
          <a:ln w="0">
            <a:noFill/>
          </a:ln>
        </p:spPr>
      </p:pic>
      <p:sp>
        <p:nvSpPr>
          <p:cNvPr id="1338" name="Text Box 3"/>
          <p:cNvSpPr/>
          <p:nvPr/>
        </p:nvSpPr>
        <p:spPr>
          <a:xfrm>
            <a:off x="5715000" y="533520"/>
            <a:ext cx="297180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otation  marks are used to show someone’s exac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4"/>
          <p:cNvSpPr/>
          <p:nvPr/>
        </p:nvSpPr>
        <p:spPr>
          <a:xfrm>
            <a:off x="762120" y="419112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hildren said excitedly, “Let’s ride on the Jungle Cruise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AutoShape 5">
            <a:hlinkClick r:id="" action="ppaction://hlinkshowjump?jump=nextslide"/>
          </p:cNvPr>
          <p:cNvSpPr/>
          <p:nvPr/>
        </p:nvSpPr>
        <p:spPr>
          <a:xfrm>
            <a:off x="7772400" y="5867280"/>
            <a:ext cx="966960" cy="662040"/>
          </a:xfrm>
          <a:custGeom>
            <a:avLst/>
            <a:gdLst>
              <a:gd name="textAreaLeft" fmla="*/ 42840 w 966960"/>
              <a:gd name="textAreaRight" fmla="*/ 924120 w 96696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1543" h="21600">
                <a:moveTo>
                  <a:pt x="0" y="0"/>
                </a:moveTo>
                <a:lnTo>
                  <a:pt x="31543" y="0"/>
                </a:lnTo>
                <a:lnTo>
                  <a:pt x="31543" y="21600"/>
                </a:lnTo>
                <a:lnTo>
                  <a:pt x="0" y="21600"/>
                </a:lnTo>
                <a:close/>
              </a:path>
              <a:path fill="lightenLess" w="31543" h="21600">
                <a:moveTo>
                  <a:pt x="0" y="0"/>
                </a:moveTo>
                <a:lnTo>
                  <a:pt x="31543" y="0"/>
                </a:lnTo>
                <a:lnTo>
                  <a:pt x="30143" y="1400"/>
                </a:lnTo>
                <a:lnTo>
                  <a:pt x="1400" y="1400"/>
                </a:lnTo>
                <a:close/>
              </a:path>
              <a:path fill="darken" w="31543" h="21600">
                <a:moveTo>
                  <a:pt x="31543" y="0"/>
                </a:moveTo>
                <a:lnTo>
                  <a:pt x="31543" y="21600"/>
                </a:lnTo>
                <a:lnTo>
                  <a:pt x="30143" y="20200"/>
                </a:lnTo>
                <a:lnTo>
                  <a:pt x="30143" y="1400"/>
                </a:lnTo>
                <a:close/>
              </a:path>
              <a:path fill="darkenLess" w="31543" h="21600">
                <a:moveTo>
                  <a:pt x="31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43" y="20200"/>
                </a:lnTo>
                <a:close/>
              </a:path>
              <a:path fill="lighten" w="31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43" h="21600">
                <a:moveTo>
                  <a:pt x="8765" y="3794"/>
                </a:moveTo>
                <a:lnTo>
                  <a:pt x="22778" y="10800"/>
                </a:lnTo>
                <a:lnTo>
                  <a:pt x="8765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Picture 2" descr="A:\MickeyToontownMH.gif"/>
          <p:cNvPicPr/>
          <p:nvPr/>
        </p:nvPicPr>
        <p:blipFill>
          <a:blip r:embed="rId1"/>
          <a:stretch/>
        </p:blipFill>
        <p:spPr>
          <a:xfrm>
            <a:off x="1828800" y="3657600"/>
            <a:ext cx="5334120" cy="2971800"/>
          </a:xfrm>
          <a:prstGeom prst="rect">
            <a:avLst/>
          </a:prstGeom>
          <a:ln w="0">
            <a:noFill/>
          </a:ln>
        </p:spPr>
      </p:pic>
      <p:sp>
        <p:nvSpPr>
          <p:cNvPr id="1342" name="Text Box 3"/>
          <p:cNvSpPr/>
          <p:nvPr/>
        </p:nvSpPr>
        <p:spPr>
          <a:xfrm>
            <a:off x="1143000" y="99072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 Place a comma after the word that lets you know the person is saying some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Text Box 4"/>
          <p:cNvSpPr/>
          <p:nvPr/>
        </p:nvSpPr>
        <p:spPr>
          <a:xfrm>
            <a:off x="457200" y="2438280"/>
            <a:ext cx="8153280" cy="11912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ickey said happily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“Come visit Disney World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AutoShape 5">
            <a:hlinkClick r:id="" action="ppaction://hlinkshowjump?jump=nextslide"/>
          </p:cNvPr>
          <p:cNvSpPr/>
          <p:nvPr/>
        </p:nvSpPr>
        <p:spPr>
          <a:xfrm>
            <a:off x="7848720" y="6019920"/>
            <a:ext cx="1042920" cy="585720"/>
          </a:xfrm>
          <a:custGeom>
            <a:avLst/>
            <a:gdLst>
              <a:gd name="textAreaLeft" fmla="*/ 37800 w 1042920"/>
              <a:gd name="textAreaRight" fmla="*/ 1005120 w 104292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50" h="21600">
                <a:moveTo>
                  <a:pt x="0" y="0"/>
                </a:moveTo>
                <a:lnTo>
                  <a:pt x="38450" y="0"/>
                </a:lnTo>
                <a:lnTo>
                  <a:pt x="38450" y="21600"/>
                </a:lnTo>
                <a:lnTo>
                  <a:pt x="0" y="21600"/>
                </a:lnTo>
                <a:close/>
              </a:path>
              <a:path fill="lightenLess" w="38450" h="21600">
                <a:moveTo>
                  <a:pt x="0" y="0"/>
                </a:moveTo>
                <a:lnTo>
                  <a:pt x="38450" y="0"/>
                </a:lnTo>
                <a:lnTo>
                  <a:pt x="37050" y="1400"/>
                </a:lnTo>
                <a:lnTo>
                  <a:pt x="1400" y="1400"/>
                </a:lnTo>
                <a:close/>
              </a:path>
              <a:path fill="darken" w="38450" h="21600">
                <a:moveTo>
                  <a:pt x="38450" y="0"/>
                </a:moveTo>
                <a:lnTo>
                  <a:pt x="38450" y="21600"/>
                </a:lnTo>
                <a:lnTo>
                  <a:pt x="37050" y="20200"/>
                </a:lnTo>
                <a:lnTo>
                  <a:pt x="37050" y="1400"/>
                </a:lnTo>
                <a:close/>
              </a:path>
              <a:path fill="darkenLess" w="38450" h="21600">
                <a:moveTo>
                  <a:pt x="38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50" y="20200"/>
                </a:lnTo>
                <a:close/>
              </a:path>
              <a:path fill="lighten" w="38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50" h="21600">
                <a:moveTo>
                  <a:pt x="12219" y="3794"/>
                </a:moveTo>
                <a:lnTo>
                  <a:pt x="26232" y="10800"/>
                </a:lnTo>
                <a:lnTo>
                  <a:pt x="12219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WordArt 6"/>
          <p:cNvSpPr txBox="1"/>
          <p:nvPr/>
        </p:nvSpPr>
        <p:spPr>
          <a:xfrm>
            <a:off x="2362320" y="228600"/>
            <a:ext cx="3990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otation Mark Rul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icke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Picture 2" descr="A:\Parade.jpg"/>
          <p:cNvPicPr/>
          <p:nvPr/>
        </p:nvPicPr>
        <p:blipFill>
          <a:blip r:embed="rId1"/>
          <a:stretch/>
        </p:blipFill>
        <p:spPr>
          <a:xfrm>
            <a:off x="1447920" y="3683160"/>
            <a:ext cx="5589360" cy="31748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3"/>
          <p:cNvSpPr/>
          <p:nvPr/>
        </p:nvSpPr>
        <p:spPr>
          <a:xfrm>
            <a:off x="533520" y="304920"/>
            <a:ext cx="8001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2)  Insert quotation mark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first word of the person’s exact words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 punctuation mark at the end of the person’s last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4"/>
          <p:cNvSpPr/>
          <p:nvPr/>
        </p:nvSpPr>
        <p:spPr>
          <a:xfrm>
            <a:off x="914400" y="25146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crowd exclaimed,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 wonderful parade!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AutoShape 5">
            <a:hlinkClick r:id="" action="ppaction://hlinkshowjump?jump=nextslide"/>
          </p:cNvPr>
          <p:cNvSpPr/>
          <p:nvPr/>
        </p:nvSpPr>
        <p:spPr>
          <a:xfrm>
            <a:off x="80010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"/>
    <p:sndAc>
      <p:stSnd>
        <p:snd r:embed="rId2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Text Box 2"/>
          <p:cNvSpPr/>
          <p:nvPr/>
        </p:nvSpPr>
        <p:spPr>
          <a:xfrm>
            <a:off x="380880" y="30492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ule 3) Capitalize the first word of the person’s exact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Picture 3" descr="A:\SpaceMountainMH.gif"/>
          <p:cNvPicPr/>
          <p:nvPr/>
        </p:nvPicPr>
        <p:blipFill>
          <a:blip r:embed="rId1"/>
          <a:stretch/>
        </p:blipFill>
        <p:spPr>
          <a:xfrm>
            <a:off x="1295280" y="1600200"/>
            <a:ext cx="6477120" cy="3124080"/>
          </a:xfrm>
          <a:prstGeom prst="rect">
            <a:avLst/>
          </a:prstGeom>
          <a:ln w="0">
            <a:noFill/>
          </a:ln>
        </p:spPr>
      </p:pic>
      <p:sp>
        <p:nvSpPr>
          <p:cNvPr id="1352" name="Text Box 4"/>
          <p:cNvSpPr/>
          <p:nvPr/>
        </p:nvSpPr>
        <p:spPr>
          <a:xfrm>
            <a:off x="838080" y="502920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Caitlyn screamed, “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oofy, this is a blast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5">
            <a:hlinkClick r:id="" action="ppaction://hlinkshowjump?jump=nextslide"/>
          </p:cNvPr>
          <p:cNvSpPr/>
          <p:nvPr/>
        </p:nvSpPr>
        <p:spPr>
          <a:xfrm>
            <a:off x="8077320" y="5943600"/>
            <a:ext cx="738000" cy="585720"/>
          </a:xfrm>
          <a:custGeom>
            <a:avLst/>
            <a:gdLst>
              <a:gd name="textAreaLeft" fmla="*/ 37800 w 738000"/>
              <a:gd name="textAreaRight" fmla="*/ 700200 w 7380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7212" h="21600">
                <a:moveTo>
                  <a:pt x="0" y="0"/>
                </a:moveTo>
                <a:lnTo>
                  <a:pt x="27212" y="0"/>
                </a:lnTo>
                <a:lnTo>
                  <a:pt x="27212" y="21600"/>
                </a:lnTo>
                <a:lnTo>
                  <a:pt x="0" y="21600"/>
                </a:lnTo>
                <a:close/>
              </a:path>
              <a:path fill="lightenLess" w="27212" h="21600">
                <a:moveTo>
                  <a:pt x="0" y="0"/>
                </a:moveTo>
                <a:lnTo>
                  <a:pt x="27212" y="0"/>
                </a:lnTo>
                <a:lnTo>
                  <a:pt x="25812" y="1400"/>
                </a:lnTo>
                <a:lnTo>
                  <a:pt x="1400" y="1400"/>
                </a:lnTo>
                <a:close/>
              </a:path>
              <a:path fill="darken" w="27212" h="21600">
                <a:moveTo>
                  <a:pt x="27212" y="0"/>
                </a:moveTo>
                <a:lnTo>
                  <a:pt x="27212" y="21600"/>
                </a:lnTo>
                <a:lnTo>
                  <a:pt x="25812" y="20200"/>
                </a:lnTo>
                <a:lnTo>
                  <a:pt x="25812" y="1400"/>
                </a:lnTo>
                <a:close/>
              </a:path>
              <a:path fill="darkenLess" w="27212" h="21600">
                <a:moveTo>
                  <a:pt x="272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12" y="20200"/>
                </a:lnTo>
                <a:close/>
              </a:path>
              <a:path fill="lighten" w="272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12" h="21600">
                <a:moveTo>
                  <a:pt x="6600" y="3794"/>
                </a:moveTo>
                <a:lnTo>
                  <a:pt x="20613" y="10800"/>
                </a:lnTo>
                <a:lnTo>
                  <a:pt x="6600" y="17806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  <p:sndAc>
      <p:stSnd>
        <p:snd r:embed="rId2" name="DRIVEBY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Picture 3" descr="A:\img_mickey.gif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533520" y="380880"/>
            <a:ext cx="3047760" cy="3810240"/>
          </a:xfrm>
          <a:prstGeom prst="rect">
            <a:avLst/>
          </a:prstGeom>
          <a:ln w="0">
            <a:noFill/>
          </a:ln>
        </p:spPr>
      </p:pic>
      <p:sp>
        <p:nvSpPr>
          <p:cNvPr id="1355" name="Text Box 4"/>
          <p:cNvSpPr/>
          <p:nvPr/>
        </p:nvSpPr>
        <p:spPr>
          <a:xfrm>
            <a:off x="3886200" y="762120"/>
            <a:ext cx="4648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find the mistakes in Mickey’s quota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5"/>
          <p:cNvSpPr/>
          <p:nvPr/>
        </p:nvSpPr>
        <p:spPr>
          <a:xfrm>
            <a:off x="685800" y="457200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Rockwell Extra Bold"/>
              </a:rPr>
              <a:t>Mickey said, Come see me at Disney World!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AutoShape 6">
            <a:hlinkClick r:id="" action="ppaction://hlinkshowjump?jump=nextslide"/>
          </p:cNvPr>
          <p:cNvSpPr/>
          <p:nvPr/>
        </p:nvSpPr>
        <p:spPr>
          <a:xfrm>
            <a:off x="7772400" y="55627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8428" y="3794"/>
                </a:moveTo>
                <a:lnTo>
                  <a:pt x="22441" y="10800"/>
                </a:lnTo>
                <a:lnTo>
                  <a:pt x="8428" y="17806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  <p:sndAc>
      <p:stSnd>
        <p:snd r:embed="rId2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Picture 2" descr="A:\fireworks.jpg"/>
          <p:cNvPicPr/>
          <p:nvPr/>
        </p:nvPicPr>
        <p:blipFill>
          <a:blip r:embed="rId1"/>
          <a:stretch/>
        </p:blipFill>
        <p:spPr>
          <a:xfrm>
            <a:off x="3429000" y="2133720"/>
            <a:ext cx="5437080" cy="4435200"/>
          </a:xfrm>
          <a:prstGeom prst="rect">
            <a:avLst/>
          </a:prstGeom>
          <a:ln w="0">
            <a:noFill/>
          </a:ln>
        </p:spPr>
      </p:pic>
      <p:sp>
        <p:nvSpPr>
          <p:cNvPr id="1359" name="Text Box 4"/>
          <p:cNvSpPr/>
          <p:nvPr/>
        </p:nvSpPr>
        <p:spPr>
          <a:xfrm>
            <a:off x="533520" y="3808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Mickey said, </a:t>
            </a:r>
            <a:r>
              <a:rPr b="1" lang="en-US" sz="4800" spc="-1" strike="noStrike" u="sng">
                <a:solidFill>
                  <a:srgbClr val="ffff00"/>
                </a:solidFill>
                <a:uFillTx/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Come see me at Disney World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5"/>
          <p:cNvSpPr/>
          <p:nvPr/>
        </p:nvSpPr>
        <p:spPr>
          <a:xfrm>
            <a:off x="609480" y="2819520"/>
            <a:ext cx="2514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Yeah, great job, you did it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17:36:42Z</dcterms:created>
  <dc:creator>Pre-Installed-User</dc:creator>
  <dc:description/>
  <dc:language>en-US</dc:language>
  <cp:lastModifiedBy>Nadia Williams</cp:lastModifiedBy>
  <dcterms:modified xsi:type="dcterms:W3CDTF">2014-03-11T16:38:28Z</dcterms:modified>
  <cp:revision>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